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D11-CC68-4B8B-8E84-ABE6F973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592-3166-41CD-A880-B400623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456-D7D6-4951-9F2A-85E8B0B8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A02-C393-410C-9D45-8933D0C9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C80-7D48-47E6-ADF8-D12C0594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5AE-4781-4B5F-9667-B448C1B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F25-F41F-44E7-9CD8-1C629BA6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E6B-E8FF-44D4-82D7-2146DAFF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6F9-0763-4CE1-89F7-283B4EC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FEC-44C1-40D0-85C1-27FD346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D92-AA89-4D98-A9EB-D1F8049A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DCC-581A-4DF8-98A5-1172FFC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1F4-6531-4C79-942E-23F79801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He’s funny, but Joan didn’t laugh.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He’ll be a great help if the work hasn’t been done.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Here’s when I’ll have to know if you’re staying with us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ere’s either juice or milk that’s here to drink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The great big hill wasn’t easy to climb up, and it can’t be hard to get down.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ey’ll either go on a picnic, or I’ll meet them at the zoo on Friday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Arial"/>
              </a:rPr>
              <a:t>I’m sure you’ll laugh when you see how funny the show is.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300" spc="-1" strike="noStrike">
                <a:solidFill>
                  <a:srgbClr val="000000"/>
                </a:solidFill>
                <a:latin typeface="Arial"/>
              </a:rPr>
              <a:t>It’s certainly the worst trip that we’ll ever make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he’s a great friend, when I don’t know what to do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That’s the second letter that he’s written to his pen pal in China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We’ll see if there’s a great place to park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I’m glad you’re happy and aren’t sad.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He’ll either be here by noon, or he isn’t coming.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he’ll find out if they’ll be in second plac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t certainly</a:t>
            </a: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wasn’t the worst game that</a:t>
            </a: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he’ll play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Kim’s first in line, but who’s second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It’s certainly the worst storm she’s seen.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Mom doesn’t laugh when the room isn’t clean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15:55Z</dcterms:created>
  <dc:creator> </dc:creator>
  <dc:description/>
  <dc:language>en-US</dc:language>
  <cp:lastModifiedBy>Laura McDow</cp:lastModifiedBy>
  <dcterms:modified xsi:type="dcterms:W3CDTF">2010-09-21T15:16:38Z</dcterms:modified>
  <cp:revision>27</cp:revision>
  <dc:subject/>
  <dc:title>He is always happy.</dc:title>
</cp:coreProperties>
</file>